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3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58F-55FA-4D6B-B393-98DA602D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B09-F6BD-4FDA-AABB-A8CAF49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E8E-A798-4403-AFEC-6C1EADF2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087-447D-41EA-AACB-BD9A93D0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667-12E2-401B-8526-351F436B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8B0-3C1C-4102-809A-FC1A0ED1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6CF-4815-42B4-A5DB-9729F287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0D5-920A-450A-BCDB-04185F9B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C9C-07C2-44B2-A39F-CBFD339C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417-372A-4EE7-AD0A-89D90003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C87-45DF-4EAB-B68B-65A0A2F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553-E5AA-4D30-B356-E8E6012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831E-E64E-4C6C-8D87-07A7B09DB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Jefferson County BoE</cp:lastModifiedBy>
  <dcterms:modified xsi:type="dcterms:W3CDTF">2008-02-28T19:29:33Z</dcterms:modified>
  <cp:revision>16</cp:revision>
  <dc:subject/>
  <dc:title>Plot Development</dc:title>
</cp:coreProperties>
</file>